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I_FIGHT%2050-50.WAV" ContentType="audio/x-wav"/>
  <Override PartName="/ppt/media/millionaire.wav" ContentType="audio/x-wav"/>
  <Override PartName="/ppt/media/image4.gif" ContentType="image/gif"/>
  <Override PartName="/ppt/media/ANGELS_F.WAV" ContentType="audio/x-wav"/>
  <Override PartName="/ppt/media/image8.gif" ContentType="image/gif"/>
  <Override PartName="/ppt/media/NEPR%20%D0%BF%D1%80%D0%BE%D0%B8%D0%B3%D1%80.WAV" ContentType="audio/x-wav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6FC-EDCD-46CF-A815-60534F39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0A3-047F-4FB6-8178-C5D6D1DA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400-812A-4009-A2CE-24536DF3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30F-F027-4D6E-9922-803D3F1A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DB3-3930-4AAF-9ECF-7D8D21EF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61D-73C0-4458-AC67-3FE08D4F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BC1C-AB89-4D47-8F89-208521F9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AB00-104D-4742-A3C9-088CE022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F613-6DA5-4928-85FF-34CFD7B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9B52-4A7E-4012-897E-CD9BC3E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86E-AD32-47B0-BA3E-400AEFD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28A-1C64-476A-8073-5BA49DD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6DE-83DD-41B7-A81B-5F7B898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529C-6CB9-4924-9F52-2F94380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846-ACD3-4AB7-9C91-7A7BED7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821F-62B6-4018-B5DF-3E1F3FC9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73C-E0AF-4B7F-8B66-B5B55D5A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EA5-BE1F-42A3-89D8-15E70D5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5F1-1ACC-445C-B2AA-D382872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D07-C61F-4111-B67B-BDDFC468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881-C9E3-449F-953B-E327A055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FB3-F9BA-41B1-9B32-AE5F7FC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215-C5DF-4865-9AA4-6F8AB4A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006-620F-4A9F-83A5-FA585AF3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7FCA-1CF1-4C6D-9E67-CCAD8B0EC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A79-34E3-43B1-8322-27EB3CC6CF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ANGELS_F.WAV"/><Relationship Id="rId3" Type="http://schemas.openxmlformats.org/officeDocument/2006/relationships/audio" Target="../media/HI_FIGHT%2050-50.WAV"/><Relationship Id="rId4" Type="http://schemas.openxmlformats.org/officeDocument/2006/relationships/audio" Target="../media/HI_FIGHT%2050-50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6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981080" y="38098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18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56386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905120" y="4724280"/>
            <a:ext cx="49528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0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0880" y="68580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“Всё украшало кабинет философа в … лет”, Возраст Онегина в 1-й гла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981080" y="2895480"/>
            <a:ext cx="45720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2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23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6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ерсонаж “Капитанской дочки”, подаривший Пугачёву заячий тулуп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85800" y="5181480"/>
            <a:ext cx="3352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Гринё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181480" y="5181480"/>
            <a:ext cx="342900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вабр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5800" y="411480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авельич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5105520" y="419112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Мироно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5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9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0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21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3657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7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из героинь романа “Евгений Онегин”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 скромна, всегда посл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, как утро, весел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жизнь поэта простод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поцелуй любви мила;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Глаза как небо голубые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лыбка, локоны льняные…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380880" y="5257800"/>
            <a:ext cx="373392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Няня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Тать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419720" y="5257800"/>
            <a:ext cx="434340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мощ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арина в девичеств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380880" y="4267080"/>
            <a:ext cx="373392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Татья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4343400" y="4191120"/>
            <a:ext cx="441972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Ольг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2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94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18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19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Тропин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64832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Н.Н. Г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Кипренский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83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еп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80880" y="990720"/>
            <a:ext cx="8305920" cy="1993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8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втор картины “Пущин у Пушкина в Михайловском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7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7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14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15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22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9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 какого стихотворного размера не мог отличить Онегин ямба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хор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4419720" y="5181480"/>
            <a:ext cx="4495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мфибрах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нап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419720" y="4114800"/>
            <a:ext cx="44193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дакт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7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650"/>
                            </p:stCondLst>
                            <p:childTnLst>
                              <p:par>
                                <p:cTn id="7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4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66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77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8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8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89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90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02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03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920" y="3200400"/>
            <a:ext cx="380988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аид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04920" y="4800600"/>
            <a:ext cx="38862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4419720" y="4800600"/>
            <a:ext cx="43434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настаси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43400" y="3200400"/>
            <a:ext cx="434340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0880" y="614880"/>
            <a:ext cx="8458200" cy="1312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54d35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 звали няню Пушк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9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2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2362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10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м меньше женщину мы любим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м … нравимся мы ей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уч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724280" y="51814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Мен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049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Бол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4724280" y="4114800"/>
            <a:ext cx="403884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егч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5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51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62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63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3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74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75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1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романе “Евгений Онегин” читаем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дев широкий боливар,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егин едет на бульвар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ая часть одежды называлась “боливаром”?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286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арф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45720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Шля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22860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иджа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832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аль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4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4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55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5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6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68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8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80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992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93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3124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12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-за чего Пушкин пробыл в Болдине с начала сентября до конца ноября 1830 г.?</a:t>
            </a:r>
            <a:br>
              <a:rPr sz="4400"/>
            </a:b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304920" y="5105520"/>
            <a:ext cx="39621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холер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4572000" y="51055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Из-за чум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304920" y="4038480"/>
            <a:ext cx="396216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грип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ангин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2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43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5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5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6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67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6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80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81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2667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3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Назовите стихотворение, в котором Бог повелевает своему посланнику “глаголом жечь сердца людей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«Памят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Анчар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Уз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Проро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4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35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36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4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4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58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59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60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72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7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8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4.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Но, дверь тихонько отпирая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ж ей … седа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носит на подносе чай.”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зовите отчество няни Татьяны.</a:t>
            </a:r>
            <a:br>
              <a:rPr sz="4000"/>
            </a:b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Филип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коф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Аркад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ихайло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20"/>
                            </p:stCondLst>
                            <p:childTnLst>
                              <p:par>
                                <p:cTn id="1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540"/>
                            </p:stCondLst>
                            <p:childTnLst>
                              <p:par>
                                <p:cTn id="1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60"/>
                            </p:stCondLst>
                            <p:childTnLst>
                              <p:par>
                                <p:cTn id="1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224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3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3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6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47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48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8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59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60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1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72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73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4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6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7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9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0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1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3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5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6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7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push dir="l"/>
    <p:sndAc>
      <p:stSnd>
        <p:snd r:embed="rId1" name="millionair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7"/>
          <p:cNvSpPr/>
          <p:nvPr/>
        </p:nvSpPr>
        <p:spPr>
          <a:xfrm>
            <a:off x="228600" y="457200"/>
            <a:ext cx="8534520" cy="207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Автор книги “Мой Пушкин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057400" y="36529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режковский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057400" y="563400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Ахматов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2057400" y="2738520"/>
            <a:ext cx="396252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2057400" y="47242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Цветаева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1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302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0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21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22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41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4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45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46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6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Поздравляю,  вы </a:t>
            </a:r>
            <a:br>
              <a:rPr sz="5400"/>
            </a:b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 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6e2f2"/>
                </a:solidFill>
                <a:latin typeface="Monotype Corsiva"/>
              </a:rPr>
              <a:t>лл</a:t>
            </a:r>
            <a:r>
              <a:rPr b="0" lang="ru-RU" sz="8800" spc="-1" strike="noStrike">
                <a:solidFill>
                  <a:srgbClr val="2f9540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Monotype Corsiva"/>
              </a:rPr>
              <a:t>н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ер</a:t>
            </a:r>
            <a:r>
              <a:rPr b="0" lang="ru-RU" sz="8800" spc="-1" strike="noStrike">
                <a:solidFill>
                  <a:srgbClr val="ffff99"/>
                </a:solidFill>
                <a:latin typeface="Monotype Corsiva"/>
              </a:rPr>
              <a:t>!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327"/>
          <p:cNvPicPr/>
          <p:nvPr/>
        </p:nvPicPr>
        <p:blipFill>
          <a:blip r:embed="rId7"/>
          <a:stretch/>
        </p:blipFill>
        <p:spPr>
          <a:xfrm>
            <a:off x="500040" y="4768920"/>
            <a:ext cx="8077320" cy="183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327"/>
          <p:cNvPicPr/>
          <p:nvPr/>
        </p:nvPicPr>
        <p:blipFill>
          <a:blip r:embed="rId8"/>
          <a:stretch/>
        </p:blipFill>
        <p:spPr>
          <a:xfrm>
            <a:off x="533520" y="220968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400"/>
          <p:cNvPicPr/>
          <p:nvPr/>
        </p:nvPicPr>
        <p:blipFill>
          <a:blip r:embed="rId9"/>
          <a:stretch/>
        </p:blipFill>
        <p:spPr>
          <a:xfrm rot="16200000">
            <a:off x="-1024560" y="3328200"/>
            <a:ext cx="2905200" cy="36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480" y="3348720"/>
            <a:ext cx="2905200" cy="32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0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1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5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6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77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252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Baskerville Old Face"/>
              </a:rPr>
              <a:t>2.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ими словами бранила старуха своего старика в “Сказке о рыбаке и рыбке”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228600" y="3809880"/>
            <a:ext cx="4267080" cy="12510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орюшко ты моё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28600" y="525780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Пустая твоя голова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4648320" y="5257800"/>
            <a:ext cx="419076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Ах ты, мерзкий стари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648320" y="380988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Дурачина ты, простоф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04920" y="461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4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олько лет Пушкин провёл в Царскосельском лицее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286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5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5720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9 месяце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28600" y="42670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6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495680" y="42670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3 год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3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146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эт, подаривший Пушкину свой портрет с надписью “Победителю – ученику от побежденного учителя”</a:t>
            </a:r>
            <a:br>
              <a:rPr sz="4000"/>
            </a:b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600200" y="3657600"/>
            <a:ext cx="54100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Фонвиз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1752480" y="5486400"/>
            <a:ext cx="518184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Жу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00200" y="2819520"/>
            <a:ext cx="525780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Державин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676520" y="4572000"/>
            <a:ext cx="52578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адищев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8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2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09:08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